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F47F-D62E-4C45-A207-4C0CA251A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C1C7-B139-4CBD-B75C-6452F9A9A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52B3-69EA-4FB5-A1A3-AFE978039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3C38-31B4-4614-822F-7768756C6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DC6B-E503-42A4-8A6B-7156F5A76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9F96-A520-43AC-8056-EE913A183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E16C-7C17-4724-9D28-A9663EA63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E36C-875F-4D3A-AEB4-7C0253AC0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3645-29D3-42D9-AC2F-F16AE02B5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7753-A8DE-477B-8B1E-72C037E48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92C4-BA91-424A-9D94-41F9B07F6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084C-4E97-4201-8285-C61C27706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5D68-AA45-4D8B-9F15-AD16D1C95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CC77-E696-49D5-8889-39136B06A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F2F0-2042-495B-85B4-724BE22BA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8767-DDAB-4165-82BB-172F9D58A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8139-390A-4118-956E-7FDD1DB7D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178B-7C17-43DC-BE78-B9170800E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5728-AC55-49B2-A131-DEE775CB6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0" r="88599" b="0"/>
          <a:stretch/>
        </p:blipFill>
        <p:spPr>
          <a:xfrm>
            <a:off x="0" y="0"/>
            <a:ext cx="13032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"/>
          <p:cNvSpPr/>
          <p:nvPr/>
        </p:nvSpPr>
        <p:spPr>
          <a:xfrm rot="16200000">
            <a:off x="-2051280" y="3584520"/>
            <a:ext cx="489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works for New Media Literacy Assess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1"/>
          <p:cNvSpPr/>
          <p:nvPr/>
        </p:nvSpPr>
        <p:spPr>
          <a:xfrm rot="16200000">
            <a:off x="-2400120" y="3310200"/>
            <a:ext cx="62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aret Weigel, bambini media || OLPC Workshop || April 5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446120" y="6477120"/>
            <a:ext cx="65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INTRODUCTION |</a:t>
            </a:r>
            <a:r>
              <a:rPr b="0" lang="en-US" sz="1200" spc="-1" strike="noStrike">
                <a:solidFill>
                  <a:srgbClr val="cacac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EARNING CONTEXT | LEARNING CONTENT | 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636160" y="4800600"/>
            <a:ext cx="1806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ovation in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4th and 5th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bridge,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1"/>
          <a:srcRect l="0" t="0" r="67504" b="90726"/>
          <a:stretch/>
        </p:blipFill>
        <p:spPr>
          <a:xfrm>
            <a:off x="3200400" y="4724280"/>
            <a:ext cx="2311560" cy="854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1981080" y="1143000"/>
            <a:ext cx="647712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works for New Medi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iteracy Assessm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garet Weigel, bambini medi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garet@bambini-medi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676520" y="533520"/>
            <a:ext cx="2590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p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343400" y="733320"/>
            <a:ext cx="4191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meaningfully sample and remix media content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426708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819520" y="20415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creates a collage out of photos of the Civil War found on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2819520" y="37180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finds some random images and slaps them together in no particular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2819520" y="4952880"/>
            <a:ext cx="56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the student found meaning in the cont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meaning new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it apparent to an external audi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/he explain the choices m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676520" y="533520"/>
            <a:ext cx="2514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343400" y="733320"/>
            <a:ext cx="4191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scan one’s environment and shift focus onto salient details on an ad hoc basis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426708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819520" y="20415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works on a ‘breaking news’ blog, updating content as it is sent alo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819520" y="37180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gets distracted by text messages and email, and does not return to the work at h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2819520" y="508968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student focus on appropriate mater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/he pick up where s/he left of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/he ignore stimuli as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676520" y="533520"/>
            <a:ext cx="3962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 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715000" y="733320"/>
            <a:ext cx="2819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interact meaningfully with tools that expand our cognition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556272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819520" y="196524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teams play a roleplaying game using handheld devices, which allow them to share information with other team me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2819520" y="358128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don’t share information, can’t or won’t operate the devices, and show no interest in solving the puzz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819520" y="4952880"/>
            <a:ext cx="563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student operate the dev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s/he use it appropriate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/he understand/synthesize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s/he engaged in solving the puzz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676520" y="533520"/>
            <a:ext cx="3962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ive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5715000" y="733320"/>
            <a:ext cx="2819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pool knowledge and compare notes with others towards a common goal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563868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819520" y="196524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compile a list of local government resources, publish it in a wiki, and initiate dialogues with community resi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358128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don’t share information with the broader community, or find it independently, that further the common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2819520" y="5029200"/>
            <a:ext cx="563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student interact with individuals and groups outside of scho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student identify existing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tudent engaged in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676520" y="533520"/>
            <a:ext cx="1981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886200" y="733320"/>
            <a:ext cx="4648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evaluate the reliability and credibility of different information sources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365760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819520" y="196524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searches and finds several different cropped versions of a single news photo on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2819520" y="358128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uncritically accepts the validity of images and content found online, and forwards found content along to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2819520" y="4952880"/>
            <a:ext cx="56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student look for markers of credi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s/he seek out different perspectiv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s/he look for the source of online content, and the perspective(s) of the author(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676520" y="533520"/>
            <a:ext cx="4114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media Nav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019920" y="733320"/>
            <a:ext cx="2514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deal with the flow of stories and information across multiple modalities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586728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2819520" y="196524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uses a variety of platforms (instant message, PowerPoint, video camera) to create and share a 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2819520" y="35812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uses a single modality to create a story, which is not shared on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2819520" y="5029200"/>
            <a:ext cx="56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student find and create content in various forms? Can s/he conduct a search across multiple modalities? Can s/he follow a narrative across different platfor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676520" y="533520"/>
            <a:ext cx="2209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4038480" y="733320"/>
            <a:ext cx="4496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search for, synthesize and disseminate information in a social network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388620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2819520" y="196524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stage a citywide protest about a pending bill in the State House via My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2819520" y="35812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are upset about a pending bill in the State House, but can’t coordinate a pro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2819520" y="5029200"/>
            <a:ext cx="563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 student network with pe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/he contact adults and professionals via online too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676520" y="533520"/>
            <a:ext cx="2209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038480" y="733320"/>
            <a:ext cx="4496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travel across diverse communities, discerning and respecting multiple perspectives, and following alternative sets of norms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"/>
          <p:cNvSpPr/>
          <p:nvPr/>
        </p:nvSpPr>
        <p:spPr>
          <a:xfrm>
            <a:off x="388620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2819520" y="196524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successfully participates in a national online forum with a wide range of participants and opin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2819520" y="358128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does not participate, and/or is unable to respectfully listen to different perspectives and opin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2819520" y="5029200"/>
            <a:ext cx="5638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 student respect alternate opin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e express himself clear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he argue her cas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e change his mind when appropri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 | LEARNING CONTEXT | LEARNING CONT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676520" y="533520"/>
            <a:ext cx="7238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challeng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752480" y="1739880"/>
            <a:ext cx="71629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standardized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synthesizing assessment into existing subjec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shared standards across districts/states/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combine assessment with taxonomy of skill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Bloom’s tax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446120" y="6477120"/>
            <a:ext cx="65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INTRODUCTION |</a:t>
            </a:r>
            <a:r>
              <a:rPr b="0" lang="en-US" sz="1200" spc="-1" strike="noStrike">
                <a:solidFill>
                  <a:srgbClr val="cacac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EARNING CONTEXT | LEARNING CONTENT | 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295280" y="485640"/>
            <a:ext cx="2819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ut m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2489040" cy="1079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OLPCpz"/>
          <p:cNvPicPr/>
          <p:nvPr/>
        </p:nvPicPr>
        <p:blipFill>
          <a:blip r:embed="rId2"/>
          <a:srcRect l="0" t="19426" r="75255" b="69925"/>
          <a:stretch/>
        </p:blipFill>
        <p:spPr>
          <a:xfrm>
            <a:off x="2514600" y="3200400"/>
            <a:ext cx="2895480" cy="7682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7"/>
          <p:cNvSpPr/>
          <p:nvPr/>
        </p:nvSpPr>
        <p:spPr>
          <a:xfrm>
            <a:off x="2527200" y="24382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bambini-media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2527920" y="3930480"/>
            <a:ext cx="253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z.harvard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1" descr="OLPCnml"/>
          <p:cNvPicPr/>
          <p:nvPr/>
        </p:nvPicPr>
        <p:blipFill>
          <a:blip r:embed="rId3"/>
          <a:srcRect l="2084" t="13620" r="4167" b="11494"/>
          <a:stretch/>
        </p:blipFill>
        <p:spPr>
          <a:xfrm>
            <a:off x="2590920" y="4800600"/>
            <a:ext cx="2971800" cy="7272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2"/>
          <p:cNvSpPr/>
          <p:nvPr/>
        </p:nvSpPr>
        <p:spPr>
          <a:xfrm>
            <a:off x="2517840" y="5530680"/>
            <a:ext cx="246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rojectnml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446120" y="6477120"/>
            <a:ext cx="65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INTRODUCTION |</a:t>
            </a:r>
            <a:r>
              <a:rPr b="0" lang="en-US" sz="1200" spc="-1" strike="noStrike">
                <a:solidFill>
                  <a:srgbClr val="cacac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EARNING CONTEXT | LEARNING CONTENT | 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676520" y="533520"/>
            <a:ext cx="6324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New Media Literac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OLPCnml"/>
          <p:cNvPicPr/>
          <p:nvPr/>
        </p:nvPicPr>
        <p:blipFill>
          <a:blip r:embed="rId1"/>
          <a:srcRect l="2084" t="13620" r="4167" b="11494"/>
          <a:stretch/>
        </p:blipFill>
        <p:spPr>
          <a:xfrm>
            <a:off x="1752480" y="1371600"/>
            <a:ext cx="2971800" cy="727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679760" y="2101680"/>
            <a:ext cx="246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rojectnml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752480" y="2819520"/>
            <a:ext cx="6858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one of the first three projects funded by the MacArthur Foundations $50M Digital Media and Learning Initiative (200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 One: </a:t>
            </a:r>
            <a:br>
              <a:rPr sz="2400"/>
            </a:br>
            <a:r>
              <a:rPr b="0" lang="en-US" sz="2400" spc="-1" strike="noStrike">
                <a:solidFill>
                  <a:srgbClr val="cd0900"/>
                </a:solidFill>
                <a:latin typeface="Arial"/>
              </a:rPr>
              <a:t>Framework for new media literac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s of potenti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ronting the Challenges of Participatory Culture: Media Education for the 21st Centu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| LEARNING CONTEXT |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LEARNING CONTENT | 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676520" y="533520"/>
            <a:ext cx="7238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constitutes a participatory cul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752480" y="173988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Low barriers to participation (i.e. a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Strong support for creating and sharing work with oth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Informal mentorship where experience and knowledge is passed down to no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nse of meaning and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Some degree of social connection with others (individuals, a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| LEARNING CONTEXT |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LEARNING CONTENT | 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676520" y="533520"/>
            <a:ext cx="7238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fundamental challeng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752480" y="173988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What to t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How to teach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1828800" y="30481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752480" y="3352680"/>
            <a:ext cx="6858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The Transparency Problem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ng students to identity how media shapes information via present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The Ethics Challeng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ng students to behave as a responsible participant and community membe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676520" y="533520"/>
            <a:ext cx="7238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skills can be cultiv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828800" y="1371600"/>
            <a:ext cx="36576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tas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ve Intel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Transmedia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676520" y="533520"/>
            <a:ext cx="7238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743200" y="733320"/>
            <a:ext cx="5943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capacity to experiment with one’s surroundings as a form of problem-solving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266688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2819520" y="20415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are given ‘free time’ online to explore what interests th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2819520" y="37180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use time online to chat with friends, skim the web, or browse inappropriat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819520" y="5089680"/>
            <a:ext cx="5638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an identifiable academic payof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sustained/deeper explo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captivate the student’s atten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76520" y="533520"/>
            <a:ext cx="2361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038480" y="73332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interpret and construct dynamic models of real world processes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380988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819520" y="20415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grow a functional society from the ground up by playing “SimCit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2819520" y="37180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do not bother to discover what facilitates (or even breaks) the SimCity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2819520" y="5089680"/>
            <a:ext cx="563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student understand processes be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student deliberately alter outcomes by manipulating variabl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676520" y="533520"/>
            <a:ext cx="2361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267080" y="733320"/>
            <a:ext cx="4191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adopt alternative identities for the purposes of improvisation and discovery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411480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819520" y="204156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adopts a professional role (I.e. architect) in a sustained fashion (epistemic gam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819520" y="37180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either chooses a role s/he is not interested in, and/or cannot sustain the r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2819520" y="4876920"/>
            <a:ext cx="56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student demonstrate an understanding of this ro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student engage with others while performing this ro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16:20:08Z</dcterms:created>
  <dc:creator>Office 2004 Test Drive User</dc:creator>
  <dc:description/>
  <dc:language>en-US</dc:language>
  <cp:lastModifiedBy>Melissa Henriquez</cp:lastModifiedBy>
  <cp:lastPrinted>2011-04-04T20:57:42Z</cp:lastPrinted>
  <dcterms:modified xsi:type="dcterms:W3CDTF">2011-04-11T13:08:12Z</dcterms:modified>
  <cp:revision>101</cp:revision>
  <dc:subject/>
  <dc:title>PowerPoint Presentation</dc:title>
</cp:coreProperties>
</file>